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60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BB4-702D-4D13-B5F5-14D772DF3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8yuihior9fuifvhijfehvhgfqerhgvqeivghkdfjhgvkdjhfvkjdfhvbkjfvjdfjkfbhohfqwuhfiwgfhwgdfvuhfuhqjsdgfiqwjfqjwghefphjfvpq;fhqjfghpqiwuhfpkqsjgfhqiwefghjiqwpjrghfpihfqgou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e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uerg qieyurgoirhgieurhgqeiurghqeijrgm,hkfhk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7D7-BF2C-404C-A582-EBE68486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22F-F1D1-4150-89B8-F41A4B9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410-BE98-4099-9F56-E83181EC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7617-7B16-45FD-BFE5-E8888241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FF1-E97F-4BD1-9689-44702164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4E4-3367-4E8A-AAD5-5EEF580A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007D-AE6E-43F1-9649-225AA0B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FB29-810D-4B95-84BB-4265B9D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C05E-3842-444E-8FD4-7A330B79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9AB-D06E-4B27-B4DF-9922478E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91EA-8697-42E8-83FC-BA23715D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FB1-0762-4442-B381-2BFE9AB0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E959-556B-445A-B86C-DFF2913D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7479-8931-44B7-8D5D-328BDA1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197A-42B4-4E08-B367-0D20116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1527-960A-4C3E-8079-1DCD147B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F11-3AAD-44AE-A5CC-2702C5BA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163-726A-4302-A990-D5CE9562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CD6-B3D3-4178-8A26-505AFDB2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50F-7416-4A61-9581-BA2A396F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E75-ED3D-4F0C-8E22-582D1DC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B0A-0FDA-4C0A-BA95-3399CE5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CC1-5698-427A-A302-8F38A681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2EA-0603-4A68-9D77-26F041C5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968-DF4D-462C-9467-9A39928C18C6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0CA9-A303-490C-8CC2-824DE6E57534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log.westervillelibrary.org/teens/?p=348" TargetMode="External"/><Relationship Id="rId3" Type="http://schemas.openxmlformats.org/officeDocument/2006/relationships/hyperlink" Target="http://www2.scholastic.com/browse/collateral.jsp?id=31199_type=Book_typeId=3686" TargetMode="External"/><Relationship Id="rId4" Type="http://schemas.openxmlformats.org/officeDocument/2006/relationships/hyperlink" Target="http://www.fantasticfiction.co.uk/k/gordon-korman/schooled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5181480"/>
            <a:ext cx="375912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Gordon Ko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400" y="1600200"/>
            <a:ext cx="48261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No More Dead Dog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19520" y="2743200"/>
            <a:ext cx="2590560" cy="1943280"/>
          </a:xfrm>
          <a:prstGeom prst="rect">
            <a:avLst/>
          </a:prstGeom>
          <a:ln w="76320">
            <a:solidFill>
              <a:srgbClr val="00a800"/>
            </a:solidFill>
            <a:miter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6553440" cy="5181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Wallence Boss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Rick too nast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Feather funn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Steve also boss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Racheal nervous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rudi has lots of friends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Vito thinks he knows everything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Leticia nutty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Kelly wants to be perfect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Parker thinks she’s coo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Mr. Folgerman is nice and wants everything perfect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etting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otball Field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chool Gy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Mrs.Wallence’s House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990720"/>
            <a:ext cx="3048120" cy="2028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666880" cy="1792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895480" y="40384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80"/>
                </a:solidFill>
                <a:latin typeface="Arial"/>
              </a:rPr>
              <a:t>http://www.3dlinks.com/galleryDisplay.cfm?artistid=5004&amp;orderby=rank</a:t>
            </a:r>
            <a:endParaRPr b="0" lang="en-US" sz="1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Problem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Wallence thinks the act is so boring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e dog explodes and makes mess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Mr. Folgerman changed the lines and they forgot the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1.Main even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at Wallence doesn’t want to act,but after rehearsal he liked i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2.main even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At the play the dog(stuffed animal) exploded and Trudi said the play must go on so Vito the dog had to take its place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Author’s Message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work with others as a team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562120" cy="3200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567400" y="5638680"/>
            <a:ext cx="37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Arial"/>
              </a:rPr>
              <a:t>http://www.gordonkorman.com/biograph.htmc</a:t>
            </a:r>
            <a:endParaRPr b="0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 advTm="10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AUTHOR’S BIBLIOGRAPHY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371600" y="4267080"/>
            <a:ext cx="1630440" cy="2362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86200" y="1600200"/>
            <a:ext cx="142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715000" y="2590920"/>
            <a:ext cx="2155680" cy="2819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67760" y="167652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ON OF THE MOB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5400" y="373392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EVEREST THE CONTES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571500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DIVE: BOOK 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Web Resource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blog.westervillelibrary.org/teens/?p=348</a:t>
            </a:r>
            <a:endParaRPr b="0" lang="en-US" sz="1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763560" y="228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67240" y="21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5146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2.scholastic.com/browse/collateral.jsp?id=31199_type=Book_typeId=3686vv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657600"/>
            <a:ext cx="6553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http://www.fantasticfiction.co.uk/k/gordon-korman/schooled.htm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http://www.survival-spot.com/survival-blog/choosing-a-survival-dog/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24:53Z</dcterms:created>
  <dc:creator>D83  User</dc:creator>
  <dc:description/>
  <dc:language>en-US</dc:language>
  <cp:lastModifiedBy>D83  User</cp:lastModifiedBy>
  <dcterms:modified xsi:type="dcterms:W3CDTF">2011-03-21T18:57:19Z</dcterms:modified>
  <cp:revision>15</cp:revision>
  <dc:subject/>
  <dc:title>PowerPoint Presentation</dc:title>
</cp:coreProperties>
</file>